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27D-4837-46F8-A19A-E2183E84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818-3C41-4ACE-BF1D-7761B3F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45B-3C13-4BA9-BCC5-D34A9A0E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622-7397-4235-A317-BD688D61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021-4349-42A5-B6F6-49C27243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101-C444-45F7-8615-FB8940AD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8E5-12A4-4B43-8940-911FB269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697-4E56-417F-B301-B648C35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177-72C2-4B20-BB84-87E42786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CB3-CE3F-4708-9D66-519119D8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DF1-773B-4676-924B-D628B9F8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828-3FE6-4970-8680-3678177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C39B-EADA-4C30-B091-F31AD282E9B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ihbarweb.org.tr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dogancio.meb.k12.tr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İNTERNET NEDİ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9280" y="2133720"/>
            <a:ext cx="7705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n, dünya üzerindeki birbiriyle bağlantılı milyonlarca bilgisayardan herhangi birisiyle veri, ileti ve dosya alış verişi yapmanıza olanak sağlayan, bilgisayarlar sistemidir. Kısaca dünya üzerindeki bilgisayar ağı olarak tanımlanmakta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9280" y="4581360"/>
            <a:ext cx="896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ğımızın en güçlü kitle iletişim kaynaklarından biri olan bilgisayarlar ve yaşamımıza birden bire giren internet, bugün bilgilenme, işlem yürütme, haberleşme, eğitim ve eğlence fonksiyonlarıyla hayatımızın ayrılmaz bir parçası olmuşt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ARKADAŞINIZI SİZ BELİRLEY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ortamında sadece tanıdığınız kişilerle sohbet edin ve iletişin kuru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nımadığınız kişilerin internetten yaptığı arkadaşlık tekliflerini redd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sitelerinde yer alan oyunlara, aktivitelere, yarışmalara katılmadan önce mutlaka ailenize ve öğretmenlerinize danış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tanıştığınız yabancılarla ailenizin bilgisi olmadan yüz yüze görüşmeyin, buluşmayı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0" y="2928960"/>
            <a:ext cx="20718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KİMLİĞİNİZİ VE KİŞİLİĞİNİZİ KORUY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840" y="200016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C Kimlik numaranızı, adresinizi, telefonunuzu, okulunuzun adı, anne, babanızın iş adreslerini ve iş telefonlarını yabancılarla payla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üstünden kendi ve ailenizin resimlerini, video görüntülerini yabancılara gönde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Yabancılarla web kamera kullanarak konu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Nasıl ki evimize yabancı birisini alıp, paylaşmıyorsak internetin bu yapmasına müsaade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699240" y="2357280"/>
            <a:ext cx="2444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HAYIR DEME HAKINIZI VE </a:t>
            </a:r>
            <a:br>
              <a:rPr sz="3500"/>
            </a:b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ÖZGÜRLÜĞÜNÜZÜ KULLAN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999800"/>
            <a:ext cx="7358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iken sizi rahatsız eden, görüntü, ses ve yazılara rastladığımızda hemen internet kullanımını bırak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Rahatsız edildiğinizde karşılık vermeyin. Hemen ve hiç çekinmeden ailenize haber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311960" y="2286000"/>
            <a:ext cx="183204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6 Metin kutusu"/>
          <p:cNvSpPr/>
          <p:nvPr/>
        </p:nvSpPr>
        <p:spPr>
          <a:xfrm>
            <a:off x="214200" y="4286160"/>
            <a:ext cx="87156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ararlı ve rahatsız edici internet sitelerini </a:t>
            </a:r>
            <a:r>
              <a:rPr b="0" lang="tr-TR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hbarweb.org.tr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 adresine yada </a:t>
            </a: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0312-5828282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numaralı telefona hemen şikayet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leri rahatsız eden kişilere cevap vermeyin ya da onları yetkililere şikayet ederek cevapl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CÜZDANINIZI HIRSIZLARDA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1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nne ve babanızdan izin almadan yada onlar yanınızda olmadan internetten alışveriş yapmayı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Unutmayın, internette kredi kartı bilgilerini karşı tarafa vermek, cüzdanınızı tanımadığınız bir kişiye emanet etmek gibi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286680" y="2643120"/>
            <a:ext cx="24764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E-POSTALARINIZI KORUY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ifresi kolay e-posta adresleri güvenli değildir. Bu nedenle e-posta adresiniz için güvenli şifreler oluşt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stenmeyen e-postaları önlemek ve gereksiz mesaj trafiği oluşturmamak için internette güvenmediğiniz sitelere kayıt ol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72120" y="2500200"/>
            <a:ext cx="26766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840" y="200016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, vücuduna bulaşıcı mikrop girmiş ve grip hastalığına yakalanmış olan insana benz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 nezle olmuş insan gibi yorgun ve halsiz çalış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219720" y="1857240"/>
            <a:ext cx="2924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429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Dikdörtgen"/>
          <p:cNvSpPr/>
          <p:nvPr/>
        </p:nvSpPr>
        <p:spPr>
          <a:xfrm>
            <a:off x="357120" y="2052720"/>
            <a:ext cx="8358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yle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ınıza mutlaka antivirüs programı k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n az haftada bir kez antivirüs programınızı güncelley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üvenli olmayan internet sitelerinden dosya, müzik veya film indi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nemli dosyalarınızı mutlaka yedekl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nutmayı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hastalığın en etkili ilacı o hastalığa yakalanmamak için önceden önlem almak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LERİNİZİ ÇALMAYA GELEN HIRSIZLARA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840" y="1957320"/>
            <a:ext cx="5829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pam (istenmeyen epostalar) okumamız için başucunuza zarf bırakıp giden maskeli hırsızlara ben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zarfı merak edip açtığınızda ve mektuptaki istekleri yerine getirdiğinizde tüm bilgilerinizi çalmış olabili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şekilde gelen istenmeyen e-postaları kabul etmeyin ve hiç okumadan si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stemediğiniz halde size ulaşan e-postaları asla arkadaşlarınıza iletmey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248520" y="2143080"/>
            <a:ext cx="2895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TRUVA ATI BİLGİSAYARINIZI ESİR ALM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0718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ruva atı sinsi bir programdı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eyi içten fethetmek için kılık değiştirerek kaleye girmiş askerlere benz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Önce kendisini masum bir müzik, film yada oyun dosyası olarak tanıtır, kabul ettiğinizde bilgisayarınızın yönetimini sinsice ele geçiri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O hal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venli olmayan bilmediğiniz internet sitelerine g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öyle sitelerden dosya ind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ftalık virüs taramanızı ihmal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835680" y="1643040"/>
            <a:ext cx="2308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-71640"/>
            <a:ext cx="90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HIRSIZ VE YANKESİCİLERE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5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ırsız ve yankesiciler şöyle çalış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olandırıcılar bir banka yada finans kurumunun internet sitesinin herşeyini tamamen taklit ederek sizi e-posta gönder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zden banka kart numarası ve şifresi gibi bilgiler iste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öyle e-postaları kesinlikle cevapla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616800" y="2214720"/>
            <a:ext cx="25272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müzde her binada elektrik, su ve telefon şebekesi ne kadar zorunlu ise Internet bağlantısı da artık bir zorunluluk haline gelmişti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n her saatinde her türlü bilgi alışverişi ve iletişimi sağlayan olağanüstü bir buluş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0" i="1" lang="tr-TR" sz="2500" spc="-1" strike="noStrike">
                <a:solidFill>
                  <a:srgbClr val="333399"/>
                </a:solidFill>
                <a:latin typeface="Arial"/>
              </a:rPr>
              <a:t>`küçük bir çakı bıçağı ile çok güzel iş de yapabilirsiniz, bir insanı da öldürebilirsiniz`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4648320" y="2238480"/>
          <a:ext cx="4038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38480"/>
                    <a:ext cx="4038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56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2230560" y="2903400"/>
            <a:ext cx="69134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:\Users\Selim\Desktop\logomuz.jpg"/>
          <p:cNvPicPr/>
          <p:nvPr/>
        </p:nvPicPr>
        <p:blipFill>
          <a:blip r:embed="rId1"/>
          <a:stretch/>
        </p:blipFill>
        <p:spPr>
          <a:xfrm>
            <a:off x="3214800" y="1785960"/>
            <a:ext cx="2928960" cy="2938320"/>
          </a:xfrm>
          <a:prstGeom prst="rect">
            <a:avLst/>
          </a:prstGeom>
          <a:ln w="0">
            <a:noFill/>
          </a:ln>
        </p:spPr>
      </p:pic>
      <p:sp>
        <p:nvSpPr>
          <p:cNvPr id="102" name="6 Metin kutusu"/>
          <p:cNvSpPr/>
          <p:nvPr/>
        </p:nvSpPr>
        <p:spPr>
          <a:xfrm>
            <a:off x="0" y="4929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ĞANCI İLKÖĞRETİM OK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ogancio.meb.k12.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elim Baykö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85840" y="1857240"/>
            <a:ext cx="628632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ten yararlanmak sizin temel hakkınızd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sizi istediğiniz yere götüren uçan halı gib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dünyaya açılan büyük bir özgürlük penceres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hava gibidir. Değeri ancak yokluğunda anlaşılı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O halde çocuklar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linmeyen yerlere açılan ve sizi davet eden her kapıdan içeri girecek misiniz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643800" y="21430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49" name="5 Metin kutusu"/>
          <p:cNvSpPr/>
          <p:nvPr/>
        </p:nvSpPr>
        <p:spPr>
          <a:xfrm>
            <a:off x="0" y="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GÜVENLİ İNTERNET KULLAN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4200" y="1957320"/>
            <a:ext cx="5786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bi ki hayır 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ünkü sizin seçme özgürlüğünüz var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kapının ardında yolculuk yap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pencereden yıldızları seyredeceğiniz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Engin ufaklara doğru hangi halı üzerinde uç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Siz karar vereceks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458040" y="2428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52" name="5 Metin kutusu"/>
          <p:cNvSpPr/>
          <p:nvPr/>
        </p:nvSpPr>
        <p:spPr>
          <a:xfrm>
            <a:off x="285840" y="21420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iz Karar Vereceksin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57120" y="2357280"/>
            <a:ext cx="57150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Arial"/>
              </a:rPr>
              <a:t>Öyleyse arkadaşlar öncelikle güvenli bir internet yolculuğu için kullanıcı kaptanın dikkat etmesi gereken konuları birlikte hatırlayalım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86680" y="2857680"/>
            <a:ext cx="2170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ZAMANI SİZ YÖNET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920" y="20718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man sizin en değerli varlığınız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ve bilgisayar başında kalacağınız zamanı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y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yarl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in zamanınızı çalmasına izin ve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ışarıda oyun oynamak, sevdiğiniz sporları yapmak, ailenizle beraber vakit geçirmek, derslerinizi yapmak ve kitap okumak için kendinize zaman ayır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210440" y="2786040"/>
            <a:ext cx="1933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VÜCUT SAĞLIĞINIZI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karşısında dik oturun; sırtınızı destekleyecek bir sandalye veya oturma alanı seç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 aydınlık ortamlarda kullan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önünde uzun süreli hareketsiz kal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000920" y="3214800"/>
            <a:ext cx="18669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YERİ SİZ BELİRLEY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1788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nne ve babanıza karşı açık, şeffaf ve dürüst olu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gezinmek için eviniz ve ailenizle birlikte oturduğunuz odayı tercih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i başka yerde kullanıyorsanız bu yerin neresi olduğu hakkında ailenizi bilgilendi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12 yaşında küçükseniz velinizi yanınıza almadan internet kafelere gi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357960" y="2357280"/>
            <a:ext cx="2628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GİRECEĞİNİZ  KAPIYI,  </a:t>
            </a:r>
            <a:br>
              <a:rPr sz="3000"/>
            </a:b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 BAKACAĞINIZ PENCEREYİ  İYİ  SEÇİ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iyaret edeceğiniz internet sitelerini aileniz yada öğretmenlerinizle birlikte siz belir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 internet sitelerini, ailenize ya da öğretmenlerinize sormadan ziyaret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lere değil ailenizin ya da öğretmenlerinizin tavsiyelerine önem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ilenizle ya da öğretmenlerinizle birlikte güvenli olduğunu tespit ettiğiniz internet sitelerini bilgisayarınızın “Sık Kullanılanlar” bölümüne ek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824520" y="292896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0:46:43Z</dcterms:created>
  <dc:creator>Exper Computer</dc:creator>
  <dc:description/>
  <dc:language>en-US</dc:language>
  <cp:lastModifiedBy>Selim</cp:lastModifiedBy>
  <dcterms:modified xsi:type="dcterms:W3CDTF">2010-04-05T15:14:34Z</dcterms:modified>
  <cp:revision>16</cp:revision>
  <dc:subject/>
  <dc:title>Slayt 1</dc:title>
</cp:coreProperties>
</file>